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36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0200" y="990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036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0200" y="3140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760" y="227160"/>
            <a:ext cx="823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1680" y="3140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1680" y="990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1402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271640" y="6171480"/>
            <a:ext cx="186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© South-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ducational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:\WINDOWS\Personal\C21 PowerPoint\Multi_Journal\cover-bl.gif"/>
          <p:cNvPicPr/>
          <p:nvPr/>
        </p:nvPicPr>
        <p:blipFill>
          <a:blip r:embed="rId2"/>
          <a:stretch/>
        </p:blipFill>
        <p:spPr>
          <a:xfrm>
            <a:off x="8153280" y="5029200"/>
            <a:ext cx="9018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2"/>
          <p:cNvSpPr/>
          <p:nvPr/>
        </p:nvSpPr>
        <p:spPr>
          <a:xfrm>
            <a:off x="6934320" y="42051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2174760"/>
                <a:tab algn="dec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. 22      1,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27160"/>
            <a:ext cx="84596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PTING A NOTE RECEIVABLE FROM A CUSTO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838080"/>
            <a:ext cx="8381880" cy="703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2. Accepted a 90-day, 18% note from Peter Ange for an extension of time on his account, $1,000.00. Note Receivable No.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1676520"/>
            <a:ext cx="281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ccounts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373880" y="1670040"/>
            <a:ext cx="12952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t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697360" y="1676520"/>
            <a:ext cx="12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639960" y="16765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500800" y="3913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80880" y="39132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4191120"/>
            <a:ext cx="419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2174760"/>
                <a:tab algn="dec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. 22      1,000.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135684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5"/>
          <p:cNvSpPr/>
          <p:nvPr/>
        </p:nvSpPr>
        <p:spPr>
          <a:xfrm flipV="1">
            <a:off x="8063640" y="449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80880" y="52149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8"/>
          <p:cNvSpPr/>
          <p:nvPr/>
        </p:nvSpPr>
        <p:spPr>
          <a:xfrm flipV="1">
            <a:off x="3566160" y="5864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7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3, page 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8"/>
          <p:cNvSpPr/>
          <p:nvPr/>
        </p:nvSpPr>
        <p:spPr>
          <a:xfrm>
            <a:off x="2438280" y="55008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dec" pos="1600200"/>
                <a:tab algn="l" pos="2174760"/>
                <a:tab algn="dec" pos="3665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. 22   1,0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6"/>
          <p:cNvGrpSpPr/>
          <p:nvPr/>
        </p:nvGrpSpPr>
        <p:grpSpPr>
          <a:xfrm>
            <a:off x="228600" y="3089160"/>
            <a:ext cx="8805960" cy="2773440"/>
            <a:chOff x="228600" y="3089160"/>
            <a:chExt cx="8805960" cy="2773440"/>
          </a:xfrm>
        </p:grpSpPr>
        <p:grpSp>
          <p:nvGrpSpPr>
            <p:cNvPr id="57" name="Group 45"/>
            <p:cNvGrpSpPr/>
            <p:nvPr/>
          </p:nvGrpSpPr>
          <p:grpSpPr>
            <a:xfrm>
              <a:off x="4568400" y="3095640"/>
              <a:ext cx="4466160" cy="1481040"/>
              <a:chOff x="4568400" y="3095640"/>
              <a:chExt cx="4466160" cy="1481040"/>
            </a:xfrm>
          </p:grpSpPr>
          <p:grpSp>
            <p:nvGrpSpPr>
              <p:cNvPr id="58" name="Group 43"/>
              <p:cNvGrpSpPr/>
              <p:nvPr/>
            </p:nvGrpSpPr>
            <p:grpSpPr>
              <a:xfrm>
                <a:off x="4700520" y="3458880"/>
                <a:ext cx="4197240" cy="1117800"/>
                <a:chOff x="4700520" y="3458880"/>
                <a:chExt cx="4197240" cy="1117800"/>
              </a:xfrm>
            </p:grpSpPr>
            <p:sp>
              <p:nvSpPr>
                <p:cNvPr id="59" name="Text Box 39"/>
                <p:cNvSpPr/>
                <p:nvPr/>
              </p:nvSpPr>
              <p:spPr>
                <a:xfrm>
                  <a:off x="4700520" y="4208400"/>
                  <a:ext cx="4197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dec" pos="1600200"/>
                      <a:tab algn="l" pos="2174760"/>
                      <a:tab algn="dec" pos="36655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99"/>
                      </a:solidFill>
                      <a:latin typeface="Arial"/>
                    </a:rPr>
                    <a:t>Bal.    1,000.0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" name="Group 20"/>
                <p:cNvGrpSpPr/>
                <p:nvPr/>
              </p:nvGrpSpPr>
              <p:grpSpPr>
                <a:xfrm>
                  <a:off x="4782960" y="3458880"/>
                  <a:ext cx="4114080" cy="1019520"/>
                  <a:chOff x="4782960" y="3458880"/>
                  <a:chExt cx="4114080" cy="1019520"/>
                </a:xfrm>
              </p:grpSpPr>
              <p:sp>
                <p:nvSpPr>
                  <p:cNvPr id="61" name="Text Box 21"/>
                  <p:cNvSpPr/>
                  <p:nvPr/>
                </p:nvSpPr>
                <p:spPr>
                  <a:xfrm>
                    <a:off x="6161400" y="3458880"/>
                    <a:ext cx="1322280" cy="6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eter Ang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" name="Group 22"/>
                  <p:cNvGrpSpPr/>
                  <p:nvPr/>
                </p:nvGrpSpPr>
                <p:grpSpPr>
                  <a:xfrm>
                    <a:off x="4782960" y="3944880"/>
                    <a:ext cx="4114080" cy="533520"/>
                    <a:chOff x="4782960" y="3944880"/>
                    <a:chExt cx="4114080" cy="533520"/>
                  </a:xfrm>
                </p:grpSpPr>
                <p:sp>
                  <p:nvSpPr>
                    <p:cNvPr id="63" name="Line 23"/>
                    <p:cNvSpPr/>
                    <p:nvPr/>
                  </p:nvSpPr>
                  <p:spPr>
                    <a:xfrm>
                      <a:off x="4782960" y="3944880"/>
                      <a:ext cx="411408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Line 24"/>
                    <p:cNvSpPr/>
                    <p:nvPr/>
                  </p:nvSpPr>
                  <p:spPr>
                    <a:xfrm>
                      <a:off x="6840000" y="394488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5" name="Text Box 31"/>
              <p:cNvSpPr/>
              <p:nvPr/>
            </p:nvSpPr>
            <p:spPr>
              <a:xfrm>
                <a:off x="4568400" y="3095640"/>
                <a:ext cx="446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ACCOUNTS RECEIVABLE LEDG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44"/>
            <p:cNvGrpSpPr/>
            <p:nvPr/>
          </p:nvGrpSpPr>
          <p:grpSpPr>
            <a:xfrm>
              <a:off x="228600" y="3089160"/>
              <a:ext cx="4209120" cy="2773440"/>
              <a:chOff x="228600" y="3089160"/>
              <a:chExt cx="4209120" cy="2773440"/>
            </a:xfrm>
          </p:grpSpPr>
          <p:grpSp>
            <p:nvGrpSpPr>
              <p:cNvPr id="67" name="Group 25"/>
              <p:cNvGrpSpPr/>
              <p:nvPr/>
            </p:nvGrpSpPr>
            <p:grpSpPr>
              <a:xfrm>
                <a:off x="287280" y="3458880"/>
                <a:ext cx="4150440" cy="1019520"/>
                <a:chOff x="287280" y="3458880"/>
                <a:chExt cx="4150440" cy="1019520"/>
              </a:xfrm>
            </p:grpSpPr>
            <p:sp>
              <p:nvSpPr>
                <p:cNvPr id="68" name="Text Box 26"/>
                <p:cNvSpPr/>
                <p:nvPr/>
              </p:nvSpPr>
              <p:spPr>
                <a:xfrm>
                  <a:off x="1204920" y="3458880"/>
                  <a:ext cx="196668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2880" bIns="18288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es Receiv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" name="Group 27"/>
                <p:cNvGrpSpPr/>
                <p:nvPr/>
              </p:nvGrpSpPr>
              <p:grpSpPr>
                <a:xfrm>
                  <a:off x="287280" y="3944880"/>
                  <a:ext cx="4150440" cy="533520"/>
                  <a:chOff x="287280" y="3944880"/>
                  <a:chExt cx="4150440" cy="533520"/>
                </a:xfrm>
              </p:grpSpPr>
              <p:sp>
                <p:nvSpPr>
                  <p:cNvPr id="70" name="Line 28"/>
                  <p:cNvSpPr/>
                  <p:nvPr/>
                </p:nvSpPr>
                <p:spPr>
                  <a:xfrm>
                    <a:off x="287280" y="3944880"/>
                    <a:ext cx="415044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Line 29"/>
                  <p:cNvSpPr/>
                  <p:nvPr/>
                </p:nvSpPr>
                <p:spPr>
                  <a:xfrm>
                    <a:off x="2362320" y="394488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" name="Text Box 30"/>
              <p:cNvSpPr/>
              <p:nvPr/>
            </p:nvSpPr>
            <p:spPr>
              <a:xfrm>
                <a:off x="516960" y="3089160"/>
                <a:ext cx="255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GENERAL LEDG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Group 41"/>
              <p:cNvGrpSpPr/>
              <p:nvPr/>
            </p:nvGrpSpPr>
            <p:grpSpPr>
              <a:xfrm>
                <a:off x="228600" y="4760640"/>
                <a:ext cx="4209120" cy="1101960"/>
                <a:chOff x="228600" y="4760640"/>
                <a:chExt cx="4209120" cy="1101960"/>
              </a:xfrm>
            </p:grpSpPr>
            <p:grpSp>
              <p:nvGrpSpPr>
                <p:cNvPr id="74" name="Group 32"/>
                <p:cNvGrpSpPr/>
                <p:nvPr/>
              </p:nvGrpSpPr>
              <p:grpSpPr>
                <a:xfrm>
                  <a:off x="287280" y="4760640"/>
                  <a:ext cx="4150440" cy="1019520"/>
                  <a:chOff x="287280" y="4760640"/>
                  <a:chExt cx="4150440" cy="1019520"/>
                </a:xfrm>
              </p:grpSpPr>
              <p:sp>
                <p:nvSpPr>
                  <p:cNvPr id="75" name="Text Box 33"/>
                  <p:cNvSpPr/>
                  <p:nvPr/>
                </p:nvSpPr>
                <p:spPr>
                  <a:xfrm>
                    <a:off x="1033200" y="4760640"/>
                    <a:ext cx="2309760" cy="64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2880" bIns="182880" anchor="ctr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ccounts Receivabl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" name="Group 34"/>
                  <p:cNvGrpSpPr/>
                  <p:nvPr/>
                </p:nvGrpSpPr>
                <p:grpSpPr>
                  <a:xfrm>
                    <a:off x="287280" y="5246640"/>
                    <a:ext cx="4150440" cy="533520"/>
                    <a:chOff x="287280" y="5246640"/>
                    <a:chExt cx="4150440" cy="533520"/>
                  </a:xfrm>
                </p:grpSpPr>
                <p:sp>
                  <p:nvSpPr>
                    <p:cNvPr id="77" name="Line 35"/>
                    <p:cNvSpPr/>
                    <p:nvPr/>
                  </p:nvSpPr>
                  <p:spPr>
                    <a:xfrm>
                      <a:off x="287280" y="5246640"/>
                      <a:ext cx="415044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Line 36"/>
                    <p:cNvSpPr/>
                    <p:nvPr/>
                  </p:nvSpPr>
                  <p:spPr>
                    <a:xfrm>
                      <a:off x="2362320" y="5246640"/>
                      <a:ext cx="0" cy="53352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 anchorCtr="1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9" name="Text Box 40"/>
                <p:cNvSpPr/>
                <p:nvPr/>
              </p:nvSpPr>
              <p:spPr>
                <a:xfrm>
                  <a:off x="228600" y="5494320"/>
                  <a:ext cx="211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dec" pos="1600200"/>
                      <a:tab algn="l" pos="2174760"/>
                      <a:tab algn="dec" pos="366552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99"/>
                      </a:solidFill>
                      <a:latin typeface="Arial"/>
                    </a:rPr>
                    <a:t>Bal.     1,000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27160"/>
            <a:ext cx="838332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PTING A NOTE RECEIVABLE FROM A CUSTO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D:\C21 PowerPoint\Multi_Journal\art for blue\Ch23\Ch23-03a.jpg"/>
          <p:cNvPicPr/>
          <p:nvPr/>
        </p:nvPicPr>
        <p:blipFill>
          <a:blip r:embed="rId1"/>
          <a:srcRect l="18822" t="0" r="755" b="82938"/>
          <a:stretch/>
        </p:blipFill>
        <p:spPr>
          <a:xfrm>
            <a:off x="457200" y="1143000"/>
            <a:ext cx="8229600" cy="2416320"/>
          </a:xfrm>
          <a:prstGeom prst="rect">
            <a:avLst/>
          </a:prstGeom>
          <a:ln w="0">
            <a:noFill/>
          </a:ln>
        </p:spPr>
      </p:pic>
      <p:sp>
        <p:nvSpPr>
          <p:cNvPr id="82" name="Oval 5"/>
          <p:cNvSpPr/>
          <p:nvPr/>
        </p:nvSpPr>
        <p:spPr>
          <a:xfrm>
            <a:off x="1676520" y="1981080"/>
            <a:ext cx="53316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6"/>
          <p:cNvSpPr/>
          <p:nvPr/>
        </p:nvSpPr>
        <p:spPr>
          <a:xfrm>
            <a:off x="3352680" y="3124080"/>
            <a:ext cx="533520" cy="5335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09480" y="382572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to Notes Recei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09480" y="419112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to Accounts Recei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3, page 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8233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LECTING PRINCIPAL AND INTEREST ON A NOTE RECEIV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D:\C21 PowerPoint\Multi_Journal\art for blue\Ch23\Ch23-03b.jpg"/>
          <p:cNvPicPr/>
          <p:nvPr/>
        </p:nvPicPr>
        <p:blipFill>
          <a:blip r:embed="rId1"/>
          <a:srcRect l="928" t="0" r="928" b="82031"/>
          <a:stretch/>
        </p:blipFill>
        <p:spPr>
          <a:xfrm>
            <a:off x="457200" y="1143000"/>
            <a:ext cx="8229600" cy="1776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3, page 6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6"/>
          <p:cNvSpPr/>
          <p:nvPr/>
        </p:nvSpPr>
        <p:spPr>
          <a:xfrm>
            <a:off x="1828800" y="25146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7"/>
          <p:cNvSpPr/>
          <p:nvPr/>
        </p:nvSpPr>
        <p:spPr>
          <a:xfrm>
            <a:off x="304920" y="20574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048120" y="20574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9"/>
          <p:cNvSpPr/>
          <p:nvPr/>
        </p:nvSpPr>
        <p:spPr>
          <a:xfrm>
            <a:off x="4648320" y="19810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990720" y="167652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14440" y="409104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p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14440" y="3352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14440" y="4454640"/>
            <a:ext cx="67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l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14440" y="37180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514440" y="481644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Account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4572000" y="251460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8077320" y="2438280"/>
            <a:ext cx="457200" cy="45720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14440" y="519732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515880" y="556272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it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27160"/>
            <a:ext cx="8231040" cy="457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ING A DISHONORED NOTE RECEIV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D:\C21 PowerPoint\Multi_Journal\art for blue\Ch23\Ch23-03c.jpg"/>
          <p:cNvPicPr/>
          <p:nvPr/>
        </p:nvPicPr>
        <p:blipFill>
          <a:blip r:embed="rId1"/>
          <a:srcRect l="18822" t="5690" r="755" b="76297"/>
          <a:stretch/>
        </p:blipFill>
        <p:spPr>
          <a:xfrm>
            <a:off x="457200" y="1143000"/>
            <a:ext cx="8229600" cy="2701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514440" y="5105520"/>
            <a:ext cx="47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to Interes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14440" y="4367160"/>
            <a:ext cx="52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ebit to Accounts Recei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14440" y="47322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to Notes Recei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2344680" y="3276720"/>
            <a:ext cx="533160" cy="914400"/>
            <a:chOff x="2344680" y="3276720"/>
            <a:chExt cx="533160" cy="914400"/>
          </a:xfrm>
        </p:grpSpPr>
        <p:sp>
          <p:nvSpPr>
            <p:cNvPr id="110" name="Line 17"/>
            <p:cNvSpPr/>
            <p:nvPr/>
          </p:nvSpPr>
          <p:spPr>
            <a:xfrm flipV="1">
              <a:off x="2625480" y="3276720"/>
              <a:ext cx="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7"/>
            <p:cNvSpPr/>
            <p:nvPr/>
          </p:nvSpPr>
          <p:spPr>
            <a:xfrm>
              <a:off x="2344680" y="3657600"/>
              <a:ext cx="533160" cy="5335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5800" y="2614680"/>
            <a:ext cx="1143000" cy="533160"/>
            <a:chOff x="685800" y="2614680"/>
            <a:chExt cx="1143000" cy="533160"/>
          </a:xfrm>
        </p:grpSpPr>
        <p:sp>
          <p:nvSpPr>
            <p:cNvPr id="113" name="Line 15"/>
            <p:cNvSpPr/>
            <p:nvPr/>
          </p:nvSpPr>
          <p:spPr>
            <a:xfrm>
              <a:off x="1143000" y="2895480"/>
              <a:ext cx="6858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9"/>
            <p:cNvSpPr/>
            <p:nvPr/>
          </p:nvSpPr>
          <p:spPr>
            <a:xfrm>
              <a:off x="685800" y="2614680"/>
              <a:ext cx="53316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8"/>
          <p:cNvGrpSpPr/>
          <p:nvPr/>
        </p:nvGrpSpPr>
        <p:grpSpPr>
          <a:xfrm>
            <a:off x="1700280" y="1676520"/>
            <a:ext cx="533160" cy="838080"/>
            <a:chOff x="1700280" y="1676520"/>
            <a:chExt cx="533160" cy="838080"/>
          </a:xfrm>
        </p:grpSpPr>
        <p:sp>
          <p:nvSpPr>
            <p:cNvPr id="116" name="Line 16"/>
            <p:cNvSpPr/>
            <p:nvPr/>
          </p:nvSpPr>
          <p:spPr>
            <a:xfrm>
              <a:off x="1981080" y="2057400"/>
              <a:ext cx="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6"/>
            <p:cNvSpPr/>
            <p:nvPr/>
          </p:nvSpPr>
          <p:spPr>
            <a:xfrm>
              <a:off x="1700280" y="1676520"/>
              <a:ext cx="533160" cy="533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21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3, page 6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41840" y="136440"/>
            <a:ext cx="38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RMS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" y="1143000"/>
            <a:ext cx="762012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1143000"/>
            <a:ext cx="4267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 recei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honored 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344360" y="61714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esson 23-3, page 6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9:25:04Z</dcterms:created>
  <dc:creator>Mary Colleen McLaughlin</dc:creator>
  <dc:description/>
  <dc:language>en-US</dc:language>
  <cp:lastModifiedBy>David Combs</cp:lastModifiedBy>
  <dcterms:modified xsi:type="dcterms:W3CDTF">2011-11-24T23:26:35Z</dcterms:modified>
  <cp:revision>74</cp:revision>
  <dc:subject/>
  <dc:title>ADJUSTING ENTRY FOR SUPPLIES</dc:title>
</cp:coreProperties>
</file>